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FBC-B916-41D7-B15A-70D1ACBF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5C0-AE24-4BC2-A829-2FFFF64D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7A6-ADCB-4B00-8F1D-9B465F40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547-EE25-418E-A984-CC9B3CCE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6AF4-05B1-4C3D-9696-FD8FF7DB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49FA-61B7-4174-A8FD-61EE4DD5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8042-2FCF-4054-B525-A8B1F28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DE34-D0B2-4F19-9DBA-5E7BDEE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41AC-492C-4483-9E2C-D800DDC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042-D01A-48C7-BFCF-2CC8803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66E1-19C8-4B85-A930-98DC4EE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DD1-212D-4B6E-BD70-57B13869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97C1-5216-4F4C-B8D9-9D2D6F5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1AC4-FFF0-46AB-AF3B-272269F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FB81-6F25-4624-82F8-CFDB17E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B594-2A3A-43B6-974B-FB55E4AA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23AA-C57C-407B-8441-86E0FA32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905-24AA-4037-844E-C7BC71B3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63C-1BC2-4F3D-A8D3-E7ED856E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54D-A6E9-41DD-A7F7-4D38CE16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457-1704-4F62-97CC-27F9A28C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C6A-3C5A-445D-B051-22133FA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4E5-1CF2-44FF-9D09-FAFE3532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106-EE90-4F02-BB54-A20C005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8609-4DCB-4DE9-9981-362E475BE4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DF8C-2770-4622-821E-A95DD69A0B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ipro.com.br/wp-content/uploads/2016/06/CAPA_A-Quarta-Revolucao-Industrial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osepastore.com.br/" TargetMode="External"/><Relationship Id="rId3" Type="http://schemas.openxmlformats.org/officeDocument/2006/relationships/hyperlink" Target="mailto:j.pastore@uol.com.br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Reforma Trabalhista: Visão do Futur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sé Past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versidade de São Pau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ife, 01-06-20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safios da refor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vas estratégias negoci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roveitamento das oportun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ão de ris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tação nas áreas jurídica e R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ão como preven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volvimento com relações do trabalh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peito às par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da de revanchis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endência do trabalho: revolução tecnológ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52960" y="1773360"/>
            <a:ext cx="3048120" cy="42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3480" y="2276640"/>
            <a:ext cx="373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danças nas profissõ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Obsolesc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Trans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vas profiss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Difícil prever q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Ajus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Educ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Novas formas de contra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Trabalhos atíp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osaico e caleidoscó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lidade cres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endência do trabalho: revolução demográf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10120" y="177336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85680" y="2708280"/>
            <a:ext cx="280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Trabalho dos id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Trabalho dos jó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Trabalho das mulh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lexi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ersat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is informaçõ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josepastore.com.b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j.pastore@uol.com.b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onto de partida: situação dos brasilei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0% de menor salá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1% na informal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3% desempreg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0% na faixa segui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0% na informal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% desempreg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0% de maior salá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% na informal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% desempreg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2240" y="6324480"/>
            <a:ext cx="69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sé Marcio Camargo,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Incluindo os excluíd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Estadão, 4/7/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ovas regras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scos reduzidos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rceirização amplia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mporário ampli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letrabalh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Hora in itine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osto de trabalh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Gratificação de cargo de confianç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erbas não salariais (*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53600" y="6256440"/>
            <a:ext cx="70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*) ajuda de custo, diárias, abono, desp. médicas, orteses, prêm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ovas regras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scos reduzido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acionamento de fér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 minutos para mulhe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m de homolog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itação an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gociação individ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bitragem trabalh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cisão de comum acor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as das 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udanças na negoci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gociado e legislado (*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valência do acordo cole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são sindi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ibuição sindic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vas demand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sões e eliminaç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afios positivos: comissão de empreg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17040" y="6157800"/>
            <a:ext cx="75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 Jornada, refeição, banco de horas, sobreaviso, troca de feria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anhos de produtividade: otimização do temp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ilegio ao méri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a serviç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ensação – banco de hor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vas formas de contrat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ôno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mit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2 x 3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binação de contr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Questionam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riação de empreg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ormaliz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ecariz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imites à gratu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Gestantes em ambientes insalub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nfraquecimento sindi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evalência do individ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plica-se para tod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strumentos normativos vig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cordos e convenç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entenças transitad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ACs em vig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epactu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iberalidade das empres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epactu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ei como única fonte do direi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ovas med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Despacho MTb 14-05-18 – sobre Parecer 248/2018 AG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plicação generalizad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 queda da MP 808 – o que fico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1 - 12 x 36 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2 – Dano Extrapatrimonial ou Mo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3 – Grávidas e lactantes em locais insalub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4 – Contratação de autônom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5 – Trabalho Intermitente 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6 – Verbas não salariai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7 – Comissão de empregad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8 – Prevalência do Negocia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9 – Recolhimento Previdenciário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Verdana"/>
              </a:rPr>
              <a:t>10 – Comprovante de FGTS e Contribuições Previdenciári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ortaria 349 de 23/05/201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9T20:31:12Z</dcterms:created>
  <dc:creator>JP</dc:creator>
  <dc:description/>
  <dc:language>en-US</dc:language>
  <cp:lastModifiedBy>JP</cp:lastModifiedBy>
  <dcterms:modified xsi:type="dcterms:W3CDTF">2018-05-29T22:46:20Z</dcterms:modified>
  <cp:revision>43</cp:revision>
  <dc:subject/>
  <dc:title>Reforma Trabalhista: Visão do Futuro</dc:title>
</cp:coreProperties>
</file>